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DE20C-98B9-48E6-8414-068D885E54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CFEE4-D98E-4E86-9CBA-BAE486B0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E3C3B-E014-4D64-BD25-EBCA8BB5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D8AF4-D3C8-42A3-AE17-3DC1EAE8AA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A424A-AB18-406B-984F-FAFD6C6A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5622F-7A69-4FFB-AB86-49F54668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3AD81-B209-43AB-99DC-93E97156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C48E8-130F-40B2-BB2B-6F797998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D0C08-88FA-4821-BB7E-E11A4FDE7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724A6-38C9-4010-B7FD-81829D62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6E152-7792-40AC-B597-3BF3AD4B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86F8C-DE94-461F-9414-41EE449D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9723-C460-42C1-9B66-6301F296050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7993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第二十九章  甲状腺激素与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             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抗甲状腺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4360" y="117360"/>
            <a:ext cx="754380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硫脲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硫氧嘧啶类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(thiouracils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甲硫氧嘧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丙硫氧嘧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咪唑类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(imidazoles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甲巯咪唑（他巴唑）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卡比马唑（甲亢平）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2720" y="-166680"/>
            <a:ext cx="6051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体内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7640" y="1272960"/>
            <a:ext cx="9001080" cy="52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口服易吸收，生物利用度 约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80%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血浆蛋白结合率约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75%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Times New Roman"/>
              </a:rPr>
              <a:t>1/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硫氧嘧啶类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小时，甲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</a:rPr>
              <a:t>巯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咪唑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6~13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小时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主要在肝代谢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易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通过胎盘、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可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进入乳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妊娠和哺乳期应注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43920"/>
            <a:ext cx="826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药理作用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及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1270080"/>
            <a:ext cx="86551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甲状腺激素合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抑制过氧化物酶，抑制酪氨酸的碘化和耦联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对已经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成的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无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外周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转化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免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endParaRPr b="1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血中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TSI(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刺激性免疫球蛋白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含量下降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17360"/>
            <a:ext cx="604836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412640"/>
            <a:ext cx="896292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亢内科保守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轻症、不宜手术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放射性碘治疗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的患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开始大剂量，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个月后视病情减量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状腺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甲状腺功能控制正常，以便手术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甲状腺增生充血，术前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周加服碘剂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亢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危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-165240"/>
            <a:ext cx="754524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6720" y="1269720"/>
            <a:ext cx="7756560" cy="36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消化道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粒细胞缺乏症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最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严重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甲状腺肿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大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肝损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190080"/>
            <a:ext cx="75438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二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碘和碘化物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(KI, NaI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及复方碘溶液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1701720"/>
            <a:ext cx="8713800" cy="34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药理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小剂量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治疗单纯性甲状腺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大剂量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抑制蛋白水解酶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抑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释放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拮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SH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促进腺体增生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腺体缩小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变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 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血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网减少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312408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7640" y="909720"/>
            <a:ext cx="90025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单纯性甲状腺肿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甲亢术前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甲亢危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合用硫脲类，危象消除即停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48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血管神经性水肿、喉头水肿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、发热等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慢性碘中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诱发甲状腺功能紊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三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放射性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99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药理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辐射（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β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射线等）损伤甲状腺实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状腺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功能诊断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①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亢时摄碘率高，摄碘高峰时间前移；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②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减时摄碘率低，摄碘高峰时间移后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状腺功能亢进治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四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β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肾上腺素受体阻断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92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控制交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肾上腺素系统兴奋所致症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阻断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心率下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②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中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阻断 – 减轻焦虑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阻断外周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N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能神经末梢突触前膜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2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，减少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N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释放，适当减少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分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甲亢、甲亢危象辅助治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甲亢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术前准备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83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掌握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硫脲类药物的药理作用、临床应用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熟悉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甲状腺激素的生理作用、临床应用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了解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碘和碘化物、放射性碘的药理作用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临床应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5545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甲状腺激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2060280"/>
            <a:ext cx="853128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维持机体正常代谢、促进生长发育所必需的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激素包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甲状腺素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 Thyroxin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三碘甲状腺原氨酸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triiodothyroxin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0600" y="333000"/>
            <a:ext cx="90680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甲状腺激素的合成、贮存、分泌与调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6720" y="1342800"/>
            <a:ext cx="8569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碘的摄取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碘泵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腺泡细胞主动摄碘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浓集碘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中碘化物浓度为血中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25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倍，甲状腺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</a:rPr>
              <a:t>功能亢进时为血中的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250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合成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过氧化酶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 活性碘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+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球蛋白酪氨酸残基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MIT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DIT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过氧化酶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 + MIT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0" lang="en-US" sz="24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+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贮存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与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TG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分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蛋白水解酶水解</a:t>
            </a:r>
            <a:r>
              <a:rPr b="1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TG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释放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调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下丘脑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RH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垂体前叶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SH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合成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                                           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增生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4360" y="1886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0" y="1269720"/>
            <a:ext cx="91425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生物利用度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0%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5%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50%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75%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血浆蛋白结合率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高达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9%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以上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与蛋白质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亲和力低于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，其游离量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10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作用快而强，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作用慢而弱，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但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维持时间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Times New Roman"/>
              </a:rPr>
              <a:t>1/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zh-CN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1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天，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zh-CN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代谢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主要在肝、肾线粒体脱碘，与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葡萄糖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酸或硫酸结合而排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可通过胎盘、进入乳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5840" y="188640"/>
            <a:ext cx="40896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三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理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6720" y="1371600"/>
            <a:ext cx="829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维持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生长发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激素分泌不足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→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呆小症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(cretinism)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            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黏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液性水肿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促进代谢和增加产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促进物质代谢，增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BMR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，产热增加；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提高交感 – 肾上腺系统的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反应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性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CA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反应性增加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神经过敏、震颤、心跳加快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血压升高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9041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6360" y="1486080"/>
            <a:ext cx="851868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甲状腺功能减退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呆小病：重在预防和及早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黏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液性水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从小量开始，逐渐增大至足量避免诱发心血管疾病 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垂体功能低下时宜先用皮质激素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否则可导致急性肾上腺皮质功能不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单纯性甲状腺肿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1" lang="en-US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抑制试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6360" y="304560"/>
            <a:ext cx="8518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过量引起心悸、多汗、失眠、发热等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心绞痛、心力衰竭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44280"/>
            <a:ext cx="777240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第二节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抗甲状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Times New Roman"/>
              </a:rPr>
              <a:t>抗甲状腺药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物种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硫脲类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碘化物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放射性碘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l-GR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β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受体阻断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52:36Z</dcterms:modified>
  <cp:revision>4</cp:revision>
  <dc:subject/>
  <dc:title>第二十九章  甲状腺激素与                   抗甲状腺药</dc:title>
</cp:coreProperties>
</file>